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A21-3135-4A58-AB7D-755BBC78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F5C-E13D-4486-83C5-B5913D43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3C6ED-6B8D-4F8C-B8D4-FE293EE7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6979B-EDE9-4A73-85AD-497DF7C5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66A76-E050-45AA-92F9-4310D49A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BFDDC-B112-4704-BE13-B4ABA520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0290B-99DB-4BBD-89AA-7AEF088A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EF2C8-B30E-4DF7-A16D-B6FEB5B7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08818-63B4-4325-830B-D0FD98AF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838CD-57AF-4E80-AEEA-650E3E19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EE248-919A-4ECB-912B-BB9EA1D8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0448F-5A02-4634-AABF-A8B48A13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789-63F1-4AC1-AF90-6DAC9B54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38F9A-5665-4BE5-870C-C09309D4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7063C-7865-4868-B4FD-AA3E7C4C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0C4F0-DD89-4E2A-B02E-AA6C0E78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EE265-4DE3-49F2-BA15-5F158787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514A1-A093-4FEB-A26A-4F1D165B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E30E5-6121-40E7-8B4E-C76B3226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0157A-E89F-4968-A412-EA820E45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1D137-E886-4921-A105-F80BCCD9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FD2D4-248A-4EDA-9949-8420C0FD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C6D31-CB73-4925-A771-3D48D8A2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5CC-F3D1-401D-9DF7-A6F5779B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B0934-376E-4202-95E6-1BF8866C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88198-96BC-44EB-8BE0-4CDF2A41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5B3BD-9D0F-42C5-B94D-778EC4FA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0DE8B-9559-47BE-87FD-FDA5F349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2FC98-D8EA-4358-B636-125E38C2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FC4BD-FEAF-4FC4-94F6-8D287EC4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9962C-1295-411B-A5FC-F55E3B14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7B04A-A93E-4068-9D7D-B6173B6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0CFE0-1D05-4279-88B4-4241973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46B36-465C-4DE4-953F-2C24E62C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6A60-BEC5-4C51-A50B-5784E429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6AA03-1423-463D-BA11-709588A1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53DDE-F0B3-48B7-B06E-9A8C41D3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38036-D8F2-435B-997E-9E167565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DFC05-147A-41D1-95AB-58092311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FFE76-2189-446B-9352-E2E203B0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9951D-A020-426B-9841-BFB2021C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D3463-C943-4CD4-9D34-44BA6259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D3119-98EF-4563-AE4A-03D5CB87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BC1F5-F37E-4709-A00C-21EC03D5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CEEAB-322F-401B-995D-D0557684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2F82-3097-4D9B-B4E8-3F20C484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C0B63-217E-4D23-9C6A-872608AA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D0052-B86B-4C37-AAC6-21C34936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DAC50-A54F-4B03-A3EC-B9238095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BDB37-91F3-4D3D-AD2B-6A31AEC3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3B309-1394-4C3B-9A63-8C312D3A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CCCFB-5BDC-46FE-BE01-1B201D91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B8E37-9601-4F49-AD13-02AD9C1F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F4E48-45DD-44F3-A0FC-035A7A0C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C8E20-606B-48B6-930A-E1200638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696A1-F9B5-4448-B638-BC914F4C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1CB3-25E4-4CCA-A0D8-26F81762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A9C77E-66BB-4665-9E91-C7F439F9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5769E-E034-40DA-9AA6-316EBBED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A8BBF-5B77-45AA-B81C-56AFF864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021C8-6C2E-4473-A1ED-EA13B2A5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E0D28-7288-45A7-96C0-4230DD4F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AB8DE-A528-483F-9488-7068F36B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001F2-6F3E-4DC9-B031-C492242A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E317A-9D37-4E21-AF3F-877F7F87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81B12-799B-460A-A3CA-8BE03A71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999B6-EAA5-4C4A-BFAC-D72E9406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3AF2-ACC8-43B5-945D-8D5C65B7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D7D50-EFC2-4922-96BA-2C50101D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F7DEE-A0DA-4CF7-A5B9-885510A7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CCCE9-DAE6-4148-AAAD-9CC0D83E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97F15F-1536-4696-B754-96855D4E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4E1C5-FEF2-47E4-AC3D-E6CE2DE3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C33C5-EA71-4DC4-AEA7-456DD01B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12326-46DE-4EDD-A4BA-52E26AED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48E20-3AD5-4E33-B48E-B6520A07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E3600-30E6-4D67-9DCB-B70F1202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E4CDE-DCD8-4289-A789-5BB54C40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44CE-AA9D-4DDF-9B51-F08C2A00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C6FEDB-ADF8-4A19-A7DD-62AFF973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D7F2B3-FAD0-44C8-8DF0-11A4C136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4511F-3A60-478A-A0D0-190277CD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7FF2D-C316-4760-B9E4-7B3437DC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92759-2BE0-4742-B1CB-E0342BB5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9ABAB2-94CB-4950-AFC8-730485B6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260147-E830-4352-A142-F7646547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87B86-F538-49DA-B7EB-5619FC1F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2FA656-3D0F-4B3D-BA23-AF2727DE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93A74-00B2-44AB-B06E-894D9918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070E-6F0A-4A55-B959-0BEA2A8E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4CCEB-6934-432F-ABAB-44539009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0E015-DEA6-4876-A837-82C405E9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E1A08-D4CF-4FCA-902E-28681E98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28FE6-F4BB-4FCC-B337-4872ADFD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F55E0-CBB4-44A6-984E-758B113D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0D54E-4994-4815-8EF8-07D8842F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65BF8-17FB-4AEB-B337-C34E2BFA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7FB2B8-4EA3-45B7-868F-1202F9C5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34C8D-2C3F-4BCC-B7C2-D9D6495C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255E5A-101C-41BC-AD31-6CDB402B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37B6-4580-4FE4-BECD-04B65CFE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37595-F5DB-44BE-9A68-CBD62305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4DD05-9E3E-45FC-B8CF-D996D680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23F30F-46F7-431B-B155-328BE939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F0D30-D672-435B-B333-8F3F9C1C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13219-0E24-4FE3-8618-71801FFA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A2CAD9-CD3C-471E-BCF9-2E6DEE91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38DDF-F659-469B-B023-1331F2E5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6621D-57D0-4848-80AD-6C47C6B8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12B574-C688-440D-A35F-558F36D9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C46A82-8AE9-4932-98B8-DC2BC18E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DAF-96CE-4F3F-842B-A4316A35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7AB1-9149-49D6-B047-62B947EA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A389C-DDD0-4168-B0EE-36BA9739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711881-3C61-4A08-A9CC-92093C33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98342-C07A-437C-BD76-E3FA6AEB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14975D-1196-48BF-BB96-FC6F7E41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4233E-0D26-4C72-9F9E-3AD6796E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8344C1-2BD3-4B87-987E-BDB01612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E3A38-13B4-44B9-BD23-F2BADB4D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11527-73E1-41BB-8001-3F18DAF2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84211-FA23-4D0F-A5C1-697A272E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A7532-9A69-4092-86C8-70218CFF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6A4B-FCEC-412C-9407-01FFAB98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93346-099C-4723-9E83-C6B3CE4B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9EB1F-0B8C-440B-9702-AF30A34C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8314B7-AD3A-4853-819D-E0296965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BFEC90-7838-43D4-9EA1-3D4BADB3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447AE3-4678-41FD-962B-0005432B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8C90EE-27B5-4FE3-ACB4-1D9B42F5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869F48-5BE3-4DE6-9295-643D4E0E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112ADC-8037-4A86-BF09-5CB344CA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C96005-EBA4-457F-9464-F15F16D6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5612E0-479B-4AA2-8A7E-6896A70A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B57D-17E6-4623-82A1-3B8E55BA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B1CBCC-2439-43C8-8091-A2962B00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9BE126-55FF-4D82-BF12-BD061999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C3BCA7-410E-4FCE-8F21-498C75A2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31174E-F91D-4482-8006-9BA48978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A51AA4-DDA6-4638-BFEA-B379C8CC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A5BB98-93FE-47E1-8DE9-3627854B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16EC9-958C-4D15-8B3F-189D8BA5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0F3ED5-6782-45A2-8636-3E3F48E1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4C8556-1C41-43F0-AA68-8E4C1735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2E58CE-74CE-41A8-8142-12111323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7008-A6EB-44F2-80CE-2DCCB873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FB549C-3EAC-4DE0-9445-15521AEA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BB8166-22FB-453D-A1B2-EB0BDC69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D23EEB-9DB2-423B-8627-FDFEEF70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3CD807-DAB6-4708-BBB0-71916330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91F4FB-7FD7-4BD8-9738-53752ADB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76EE8-3A02-47CD-9D04-74C3B10D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37E545-A1AE-47FE-80E4-09E52032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B6F96-0919-4471-9A9B-963B5F74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CC9F9C-5FAC-4B3F-AA16-1C71EE55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40F457-5496-46A0-8846-AD9D0334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2173-A924-4704-9B0E-85786C55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09BDEE-CE99-41BC-8BF8-2ACA8C69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78A27A-0DE9-4980-B001-BA934960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230A5F-D352-43C7-9511-931973B5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1741DD-3248-4853-A239-0156E4DE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B2A044-98D3-4CC2-B8D4-7ED5491E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F5FF68-57C5-4421-938F-1B5F6B3B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4D7DB-E7F1-4873-A7DE-C7B28D2C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B816EC-0711-4F3A-8587-F1490E7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69F5E1-EEE2-4A33-AA70-831E7C51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0EF467-A0B7-4478-90F0-B7F2530E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2C7D7-D1DC-4EA2-B67B-15D665FB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CED6A7-7955-4977-959F-5738587E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70FC74-44F7-42C3-AA8B-99AC3A64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E72962-3C37-4848-A893-DB61FB82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D61BA-78F1-4587-8E85-F5270F4C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B9A3-1D4F-42B5-A0D0-017BE4C8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5D282-A3EE-4173-A0FC-747168B8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CD469-779E-4705-899D-151A9F37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0DB-1BDB-4C40-8841-B0FD5C4A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7937-07E4-41B8-A2AB-274CC36F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2C26-F66B-43F0-8A69-2FBD9EC8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58CFA-3C04-4853-9C67-B1238171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4FBD0-CD2E-4681-ACEE-560969DF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0905E-95FB-44B9-8ACF-052879CF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EB25-93DD-4F0E-A97F-17F5CEBE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8109-D71F-4868-9A77-278275D8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E051D-4FD1-41EE-BF8D-4B2A681C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743BD-233E-410A-987F-5236DA7B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E7A53-3B82-40D3-BFBF-93365007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24C-CBFC-4E2E-AE87-AE56EB8A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5B1AC-F088-43E7-9086-89188193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A927E-4192-4417-8620-299A4795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47FDA-8CAC-46A3-8F71-F6A0DC58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D2032-E571-4869-BEF8-848FEC61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D058-D986-4518-84ED-18DFC22E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59853-569E-4D28-BD4A-32857104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3AF40-6A9C-47E5-B3F3-8E3E75CC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66C83-FD02-4478-9BB3-8E3868CD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7B4B-26D0-413D-9A4D-E9EC9335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9F7C9-3F6D-4808-87A9-9572CCDE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939-6EBC-4CDF-BCA2-2848EA76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FF4BC-E19A-4F3F-BCF7-D85C73D9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A7FE6-22B1-44B6-B50E-D3EAB379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6AC94-7E9D-4633-94B5-79B7884A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E94DC-C512-4C4B-9615-A601B6E4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B922B-98D6-468B-B360-2DFFB252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D685B-98A8-4CC1-B4A1-52ECCB2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A93D5-076A-4322-B7BB-94E2F777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0AFB-6399-4566-B623-4DD89348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5B113-7E3F-4563-BD1C-333BDB95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E55EB-FE13-4480-A3E0-42D4C97C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0EC-B12B-4378-B1E0-B0E74D02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4096D-6817-4662-AD78-3E4D58CF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093B5-69A1-44DC-9DE3-079475E6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100C8-497F-4F9C-B36A-62FC0ED9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EC860-6AE6-4287-A7BE-A3AEB15C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758FF-F5E2-46F1-AD33-CCB8B85F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48FD3-1F38-48D0-8608-31CE3CF6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CB103-0E69-4D2D-9EF8-0ED3B930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90672-7F51-40F6-BFCE-0DAC79A8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76E95-B8F8-421D-8791-F073DDC0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AAB0-5412-4D34-9E42-1BED0DE7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E8D-49AF-4223-B3BB-8A9A427C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BC217-49BB-4F00-9429-66D04785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31FF6-DD7C-4ED5-9CE4-F9DEB125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6024A-2DC0-421A-86FA-6F1E8159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81F44-A0B8-472B-B549-842CBC7C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293B7-BB0A-4EA7-9FC4-6A68D114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4F6CE-F05C-4392-AEDF-38267A09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06B61-8993-493E-A452-B90DD2DF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44E1D-7013-4BB5-8FD3-800F86CA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7CA3A-109A-4EC2-AA92-337DEB5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FFC87-3F87-43F6-A22A-A7AE4962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D8A-A482-4250-A8DB-AB7B055C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6F6CB-B5FF-48E2-BE46-5EBDAED5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F32A2-664E-4B28-870F-376BBE5E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41326-708A-4683-871D-93E283F8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08031-9A9F-4843-9D22-C5E8410B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F2357-BD78-4687-BA07-FDD65642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E47EF-4687-44A0-8767-CC26FC0A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CFFE0-07F4-48DB-8632-D47489D6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D9819-D781-4D78-8DA5-F0074986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AC0CC-99BE-4773-959A-6C3ECE66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BADFB-ACA2-4106-BB99-4BDADD15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1F1-8865-4085-8622-41E3EBC4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8C9F6-408D-48FF-B3E1-B1C0CDB0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B992A-535D-4066-ADCF-CD52F73F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B9289-6B1C-4490-BE6A-F13F3EF6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1047B-93DE-4EE2-AE39-22369D73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72D18-CC16-4F8E-9A19-66CC8C16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8B464-809D-4FAF-948C-DC432B0F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7E521-F30B-455A-9F2F-FEA3593B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80F21-0F8B-4FB8-9381-CF97B7DA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15607-352C-4192-883D-51CB1123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6E117-BEDC-40DF-AD75-FFA84901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ADA0-A56D-4886-9529-C054D0E85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F4BA-B113-4619-AF68-5A33D91ED0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BA90-79CC-4523-B55D-89F26CA28C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1883-FE6C-4DB3-9E2A-2B59304F1D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108B-A224-4ABF-B0FB-515C770CD1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8DE5-8221-481D-ADBA-32FDA77AA5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D39B-379C-416B-A056-C0DB5CC567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2F0B-3B1C-4878-9105-E529891149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27C0-1561-439E-A84E-4277DEF7A1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8395-4E9A-444A-B1F0-AFDE418155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E9EC-B20D-4B06-95DE-1F313EC5F7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2984-50CC-4CC0-9193-022DED3C4E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7AB6-3B3C-4F21-A3E3-9E606FBC2F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0E5A-B70E-4A96-A17C-9DF483E8F9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9C79-BA3C-45D7-86B2-4C86751117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0B24-0D63-4164-97EB-238ADCE5CC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DA79-1CBF-4733-9690-2E4EDC7838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34BA-94A8-4159-A90B-78FA7D0E97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A240-DC15-4FF3-805D-CA3A890D21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9C36-F151-43D4-8D50-D53B520AC6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815A-32BE-4D90-9373-863F6BE401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9846-A4CC-4953-BFA1-A4737C6EDB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2C3F-0306-4D62-910F-CF6B75EB93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53B0-888F-4ACE-927F-6A097991DC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53B1-7A24-49FA-8176-A4F1F61201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F94B-A41C-4363-8017-F0E0F56F15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E999-025C-498E-A389-94A7DA0DA5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B724-B5BB-4ADD-B694-45F039709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D66B-D1F0-45C2-A945-BBFB83DD9E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FB6B-D96F-40DC-9E07-FAD01474E5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3F6A-8D96-453E-B7E3-F11BF37075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994B-AD93-4B85-85C7-73DD32FA74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7217-1A5A-4934-A8CC-E244BC1349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9D1D-1FAB-4188-8D53-BCB2AFCCA2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A8D3-3F67-4073-9892-73143BDAF0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4550-0FE1-4047-A293-F3A205D76F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B568-D961-4212-8F36-25727B09AF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ABBA-63E4-4456-A159-BCA56A8F71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FBF9-29BF-40B1-B12D-87FE9AAEDC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9023-1767-40B3-A3B0-5C396278A3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286000" y="3009960"/>
            <a:ext cx="4572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495360" y="2262240"/>
            <a:ext cx="8153280" cy="23335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201680" y="285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148360" y="285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8728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14836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87280" y="40910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23760" y="933480"/>
            <a:ext cx="9094680" cy="49910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258920" y="3803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3635280" y="378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5940360" y="378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8317080" y="378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1258920" y="551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7"/>
          <a:stretch/>
        </p:blipFill>
        <p:spPr>
          <a:xfrm>
            <a:off x="3635280" y="551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8"/>
          <a:stretch/>
        </p:blipFill>
        <p:spPr>
          <a:xfrm>
            <a:off x="5940360" y="551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9"/>
          <a:stretch/>
        </p:blipFill>
        <p:spPr>
          <a:xfrm>
            <a:off x="8244000" y="55306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133200" y="2124000"/>
            <a:ext cx="8877600" cy="26100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826920" y="3025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826920" y="3471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826920" y="3875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826920" y="430704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28440" y="1251000"/>
            <a:ext cx="9087120" cy="300996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1" descr=""/>
          <p:cNvPicPr/>
          <p:nvPr/>
        </p:nvPicPr>
        <p:blipFill>
          <a:blip r:embed="rId2"/>
          <a:stretch/>
        </p:blipFill>
        <p:spPr>
          <a:xfrm>
            <a:off x="579600" y="4457880"/>
            <a:ext cx="7503840" cy="16002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755640" y="17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75564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6"/>
          <a:stretch/>
        </p:blipFill>
        <p:spPr>
          <a:xfrm>
            <a:off x="826920" y="443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7"/>
          <a:stretch/>
        </p:blipFill>
        <p:spPr>
          <a:xfrm>
            <a:off x="826920" y="5300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76320" y="1552680"/>
            <a:ext cx="8991360" cy="37526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755640" y="2046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755640" y="285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75564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图片 2" descr=""/>
          <p:cNvPicPr/>
          <p:nvPr/>
        </p:nvPicPr>
        <p:blipFill>
          <a:blip r:embed="rId1"/>
          <a:stretch/>
        </p:blipFill>
        <p:spPr>
          <a:xfrm>
            <a:off x="1440" y="1563840"/>
            <a:ext cx="9141120" cy="39938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684360" y="39625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684360" y="47242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" descr=""/>
          <p:cNvPicPr/>
          <p:nvPr/>
        </p:nvPicPr>
        <p:blipFill>
          <a:blip r:embed="rId1"/>
          <a:stretch/>
        </p:blipFill>
        <p:spPr>
          <a:xfrm>
            <a:off x="500040" y="2062080"/>
            <a:ext cx="8142480" cy="27338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75564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755640" y="380376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4:04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